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52D-72BC-4CD2-B7A8-6F457CA8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C42-33E9-41F4-B5C0-6E812AF7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ED3-BEB6-4045-8B21-C2B05DA4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0713-109A-4B24-8DC6-4654F002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F5F-699C-4F36-AF7B-6F6A12E2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28F4-773A-4D94-8AF7-62732A56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A823-B9B2-4F6B-ADD5-57C4EE0C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89E4-5519-451A-ADD9-6E1F8288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C28-7BE7-40AF-82FE-480B1526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9BF-A2E9-4852-87C4-6A703D3E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BDA-59AE-4385-BB1D-9D4E26C2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6EB-83A6-4D34-AC90-160559EB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CD52-0B27-45CD-90B4-69A6CDB03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Lamb of God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Lamb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bearer of our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redeemer of the wor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019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0:44Z</dcterms:created>
  <dc:creator>Anon Anon</dc:creator>
  <dc:description/>
  <dc:language>en-US</dc:language>
  <cp:lastModifiedBy>Anon Anon</cp:lastModifiedBy>
  <dcterms:modified xsi:type="dcterms:W3CDTF">2005-08-16T04:24:02Z</dcterms:modified>
  <cp:revision>10</cp:revision>
  <dc:subject/>
  <dc:title>PowerPoint Presentation</dc:title>
</cp:coreProperties>
</file>